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3B2D-E151-464B-BF97-33D4FFD4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an conclude that a disease is hereditary if there is a family history, i.e. a genetic link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98E-EACC-40A5-9F04-F80A60D2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E2B-7E28-443F-90CE-0CBC884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1F2-0F47-4B35-9D9F-9DB8C1BC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F64-6A43-4D27-A6BB-C116586E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D2C-A746-4455-B6F2-32228D5D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866-AC8C-4E49-A2B7-40001CDD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EA7-A31D-47E6-B6DF-5AC09AF6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B22-E9EE-4822-BB39-838B3195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B03-BA53-41F6-A5C4-C1A7B4C1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B04-EF6E-488F-9153-96763F1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11C-4D8F-4B44-801B-6D83EA0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745-AE2C-4651-AA9A-10B68B2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2C41-2C26-4107-B607-980C5428A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kap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breaking down alka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connection between DNA (genes) &amp;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rrod didn’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“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3-11-18T18:27:01Z</dcterms:modified>
  <cp:revision>118</cp:revision>
  <dc:subject/>
  <dc:title>Molecular Genetics</dc:title>
</cp:coreProperties>
</file>